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691-79EB-4CF7-867C-2177B082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1D6-4F95-425C-9E03-2C85A7A1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30214-7527-4228-A801-B9ACD816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DEAA6-56AE-4A91-87C6-2E9DC7CF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A5CA9-F2D9-4714-B068-E742E975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A926C-AEFE-465E-9C0D-92F539E5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004C0-55E8-4198-B24D-CBEC38C2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D03FE-844C-4273-A604-986E12FB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1B560-35F2-4292-BAF3-209FFFD2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F3E9A-5047-4854-B12B-226B689A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34538-C4FC-4F6F-8F84-12A7EDDD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8EC61-0E9E-40EB-8334-739E0911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B3E0-967C-4766-ABF3-74B94790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6DFFB-B95A-4D91-AA63-7DF02B63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F529D-3629-4E79-95A0-3BE50536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B60E6-7C0C-4EAC-8EE3-12080D61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8A8B2-C23C-49E2-AFCB-113BB05C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84CE8-C3BD-419F-A365-20B4DAE4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1DC8E-5046-45B7-9C63-438E0A4D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AE5EE-7C05-48BD-9610-961AEF60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620D7-6999-4407-A896-44DD62E3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279A4-53E8-498F-A3DF-6593AE42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88DC9-F417-4A79-B45F-745F3A74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E837-F83A-4130-8552-F9D7B0B2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162F9-A17A-4932-ABF5-E44445C2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B9232-6DD1-4F52-9CEA-A5B068D6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84289-3D3C-4A37-8EAF-20723220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DFF62-63AA-4E5F-9BCC-0A9AD7F4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211B7-0AE7-4BC8-81D0-C20E903F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2E1AC-F51A-4F6E-91EA-75664BF1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27DB5-1DD4-41C1-9133-BA536007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63F54-7DA1-4EDE-9A42-4E7BE663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FD096-2089-4C75-AECF-3F1B5E9C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E27EE-EF22-445E-86BE-45ED553C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7C84-88A7-4C29-9915-40C48C03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D79EA-E63E-4BF7-BE86-32659150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8336D-001E-41E0-AF15-B6D41676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7B52C-8043-481D-8188-11B7B533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18F61-EA01-47F6-A6AA-EC214D4B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1B4E1-AB49-448D-AB08-12FA31D6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FB037-4721-4A99-9B42-00CF2769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D1278-C86B-4136-BE48-4DA5A385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19CF6-624C-4B47-A96D-8A80D9F6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0508D-7FF6-430D-A798-CB1A6372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1939D-AA6A-41A0-8BA1-B75E0062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A72B-77D8-4DD8-8560-544A5059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AE973-2387-4EE5-B37F-309C8815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0528A-68B1-4740-940F-35644A56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F9136-BDDB-4F73-AAE3-67823E66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98793-E837-4DC0-8C22-ECFADDF0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9EA61-7DB0-4438-8DEC-BF0D60EC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68305-A878-4B7A-88B4-9181F6B0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F69156-0A9D-4976-8AF5-0223A1D2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D9E443-5A1B-418E-94D3-103CE208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F356C-354C-4597-8CAE-8E4F55C8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7ADAE-304B-4FC7-8DEF-F65DBB99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F8C7-16B1-41DF-96AA-FF419711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30713-2BC5-4703-96F7-84BE4B5D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4DB06C-9167-45F5-AB44-90604BA1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D9345-7343-4CC1-A01B-A34FED45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6A8002-B001-4C58-B7E8-A9CA80AF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733FB-AFE0-4CF4-AB29-B9CAB6D5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3535B7-1F2B-406E-8F5B-CE0AC180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0BC276-9609-4E91-B499-82859B9A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32DB9A-7D1C-4685-89F5-F52974E9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5EFE6-4CF3-48FE-8394-628E2031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003CE2-464D-4068-AD80-4369607F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5B0C-9EBE-4DEA-BA6D-A0F9BB06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407E38-B172-4DF5-89DB-D3CC511C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E9BC1-E234-4130-A767-1E79094D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B9B23C-2331-4E10-971E-23304CB4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6C98D4-7C46-424E-A9D0-0C3A638B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BED253-7145-4AC4-9C30-755B68EA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259A53-0B7D-45F4-9E9F-AFAE0AEF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1267BF-01E5-4791-A80B-22FD3C4A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3A357-30FD-4477-93D2-20D32939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0A9941-D005-46CB-A8E2-B3302DF7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3A9D0C-8BF7-466A-8810-41BAEA65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6E02-3FF1-4BB1-B6C0-905057FB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84D5F4-9A94-43B6-A203-AB8D2705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898FD6-FA9A-4288-8FFF-4D82D677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AF0E22-E0A8-4DBB-97A5-8D2499B5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A8D53F-467A-4D55-888B-0B3D6654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45BF65-3CD4-455C-9BAE-1EF7D3CE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72086D-9477-48B9-A141-30488DAB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FC2475-D7DF-4221-9B81-469CD215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9E8ACF-83A4-4741-AE04-95ABEDAD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FF2C01-B3F0-4A38-A369-8BB6AAE4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169160-3E45-4A23-8E68-7E637692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96C6-4E85-478E-91FA-D827FF50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9BEF64-A5EC-4DC4-B05B-592EF188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F16E11-A789-4356-8508-45738BE6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2CE5B2-7C06-4B39-92E7-B66117D5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45C597-0586-494A-B53F-12FFEF25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37DBFA-4CB2-4822-8CF4-6980AB0F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B325C8-1428-4048-B50C-BDC50BC0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C8C443-72F8-4706-9717-E97179C6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016853-ACAD-4561-A7D6-ADF4C156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AFE5AC-9572-4F24-A103-84788BDE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8CBB5C-91D1-42E1-8DFE-E368250E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C4C3-D5C3-4912-A983-807821AB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8DBE78-BE16-49DB-A54F-93829107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AE0A63-E49D-4687-8A7B-2FA16FE9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7668D-515A-4B2E-95A4-2CA4A605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381081-64A2-49A3-839C-E5AA0E43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9055FD-3656-454F-9BDA-7B3DCE23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79E750-249C-4AF0-8734-728598FB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4005AD-1F8D-4B7B-A7E5-2A2725E6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F0B9F6-1503-43C6-AB1D-52D63AAB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258087-C32A-487F-8B91-8C290C8A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CD1032-9A5F-4D97-9B96-051F0AE3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32B-F51F-446E-AEE3-7A20F86A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7D07-D07E-4F6F-94D2-7E17F5D3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F0A2A1-B1B8-4C2D-BF83-930151E8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262A60-6F8D-453F-B171-ADE85698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1AAFD0-869A-411E-AFA1-73B948D5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81EE4B-F9FC-4B6F-9EB2-B7358CCB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573ECD-4344-4022-A0C3-0230F9A3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422335-608F-43DD-9EFA-CFA1F52E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B2AD80-6611-4694-B443-7E680E54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998431-72A5-47A1-BE5F-613B22D1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9B37C2-5729-40E4-906E-E2628A65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669FC7-CEE1-4B12-967D-3C82C20E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5FC0-6B0B-4ADA-996D-1949B90F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6D22A8-B35A-4F0F-B8D5-BD0E355D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8F66BF-9865-467E-905A-75D929F0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CC5F9F-B3DC-4CC5-98FF-8F786FF0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356F75-BA6E-4142-A74C-2EAED6E4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3366A2-4AAE-4739-A424-82DCAE0B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F076C3-9CB9-4DBD-BD66-5DF7996F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731D26-08E6-41CD-A9F2-B369EAD2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1D59AD-8741-474B-A722-158203F1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EF8838-8214-4AD5-A753-10B8531B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84EEBD-641A-4778-9349-59C21F41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D5DD-6679-4C5B-A1DC-3610009C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29A149-F552-4178-8AE1-0028F921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AEFE10-A544-4840-BB1C-866905C9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BD1597-B8F8-4D69-8AE1-40C9C12E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4B3425-4CD6-41CE-9DD8-2DFBD67E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7E0AE5-FBD0-4651-85EA-6561BE27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508057-369E-4956-BBBF-8D949E88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ECDDD2-270B-4C6D-B640-EF8998F6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2B051B-C5F7-4B9D-AFDB-840DC254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992BEF-BBFA-40B5-AC62-2E478774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CA1C0F-79D2-4449-BD62-4A2F39BD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770E-4987-4AB0-8870-6DCC83E6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8E80F0-D21F-404C-8CD6-927D2FD1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D19378-949A-44AA-95B9-CEE5F11B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D8A48E-4956-4E83-A54A-98329B05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66FB90-D702-4225-8E10-5EB41925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E8B9BD-F2FA-45F5-BF96-4BC20957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B7F99F-3FD3-4DD4-B245-CF8EAA03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963D2B-B910-4A83-8ADC-84B2EB0C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124D12-5899-4BE0-A465-63CD41D2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8FF2C1-E2BB-4245-B4BC-0330CED6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DD5DAA-57A6-4B71-AACD-038B3833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F801-08E1-40C0-9942-6B01D542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A1EDCF-6024-4E52-853B-4E10F237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43E3BD-46AF-479F-8E47-7BEB2540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89AFF9-0E50-45ED-922D-8735F487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3AA927-5F49-4558-A52D-341DFCA7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753DAE-CEE5-4AD3-9B04-393A0CAE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DC71EC-75E6-4A98-8CC1-57813415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5E210A-57F4-4E19-9B1C-6DA2197D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D52567-7851-431F-A593-58D72555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95B773-3B66-42CF-A647-974B6519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4782E0-815F-44F6-A6BA-47EF333F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7C0C5-677B-439A-B0A3-6A31AAB2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CBC090-58C7-4435-A8BC-3BB11D80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B793BF-7697-46FE-B9E1-3F04C416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74C646-D8C2-44FA-BF93-B95BF73E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DD1856-7B2F-4070-BC38-B024F5B9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915881-EED5-4324-B303-45E01F8C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CCFDDB-B19F-45C3-BBEF-4E7EFFF5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EF7428-15EA-43CA-90BF-11BB7C9C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5E20A5-B93C-4BAC-B5CC-2AFA975E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1FFA3E-8364-4713-85ED-CBB526B0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197620-0C74-46F7-AFF7-01B0FA37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F319B-D5E0-4686-90CB-6D6A1F5A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D277C3-481A-497C-8064-147476EF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7EDEFE-1075-4588-9105-AB931D2A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C23912-CB70-435E-8EAD-9EBC1C54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8E8FBF-2E93-4051-9EC3-7A78FE98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49868E-4594-4D1C-ABE9-944B71D1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049E17-7B66-48A3-99E8-4CC8568D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CBC4F1-2D70-466B-80CE-1AFAD4B3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2C4329-3CAE-4047-BFBF-5FE5DA71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A23F11-E421-4A2B-8C20-E43D512D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16F4A7-C268-44BD-AC92-DFF84B8A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7D82F-E95B-4E23-B2F8-915CA7BA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DFA3D9-74C1-4CBB-890F-9B1A3023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4634D1-A3C9-4326-B64F-220D2839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1B2EF0-C0B5-43F4-8B21-17FF41EC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8C2AC6-52AD-47FD-9082-4EC5890F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0EF84A-A1BA-4A55-AC9F-4DDD4AF3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0EACB6-E59D-4096-B915-D753D067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E2DA9D-D112-460A-B28C-D91089EB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A48C16-5C2B-45A3-96DE-7990A72B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DBD9ED-AB3E-4C9A-83C9-5C151C2B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09187D-611A-4137-97D0-E2713BB0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4F764-D226-4516-91A8-1F534A2F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CF3CAF-84E6-4F04-81E3-490F624C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263F4A-EC25-443B-96C2-9F6E5FD2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0874EC-FA71-4E07-99B1-025BDC17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0AAB60-2204-4B38-B296-830A031E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440182-2F20-4AC3-931B-DDC273E1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6F076E-779F-4CA1-8F4D-C1737F04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A6C291-1979-459C-BB17-6CB8D18E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229DD2-6F9E-4530-85DC-ADA1127D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867DAF-C658-4EBE-97B9-D8B2C6BB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E68878-50E0-40B0-BED4-554CEEDD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599AB-F7E8-479A-ACDA-4A2899EC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D2E134-07B0-40C7-A915-6B9533EC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D01D5A-AEF6-45FA-8764-031C8859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B53A59-3A9D-45DD-970B-D9C94C34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9D5A33-1A31-4157-8CD0-798150C8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29D4F7-8408-40E5-8A03-E7631018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FB5609-68DE-458C-9F66-1F460659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E390C6-982B-4B91-B3ED-1BFBFAF5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810C89-0E49-4830-8784-8EDBE515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E8D0D6-EF02-4246-A3FA-8A0B5919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27EC95-C97B-4F97-BFEA-4382FACA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195-6F35-4BCA-9C0C-267C8A5B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4E011-7565-42A3-8A02-E0EA009E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86C395-6655-49B3-A273-FA9CFBEB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06EF0B-EDAF-4D4B-A113-641EC7E8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264170-6ED3-477C-B2F1-6A0498AC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88D051-3785-4F84-A625-B09DFABF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CF3DBF-C076-4B72-891E-A457B50C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EC9BA4-D7D8-4064-A43E-E78BDFCC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5A8016-E715-4F2B-9388-24654ED3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0E163B-3096-4AC0-A52E-A5C82351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499018-1D9A-4099-B5E6-708BABC0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C4C73C-F891-451F-AA06-EEBD6EA8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F0FF1-B601-4E94-8765-68A35406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7E8445-E06D-41E5-91F0-B525639F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A10A9F-EC1F-47D7-B9EB-B67F2C13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8C9369-B923-446F-807C-7968C726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2DE6C7-2113-427F-90C5-78E2B16B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0C5312-86A0-48F3-B92B-49FD97F2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D1B6A3-7C88-4B0C-A5A2-1F8795D1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ACFF77-2AE2-4A3A-97CF-A8BFC0A6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3F0E68-8A7D-4035-9AC1-1238EFEE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49F516-DC66-42C6-960E-AE09CFBB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994784-C9CE-4F4F-BA8D-CE83CE72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95D74-D0B1-4EE3-8BD6-6C97BCDB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FC1E28-ECDA-4885-98B4-1EDF20C8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636C00-7834-41AB-9724-562D7C0D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618D2C-AB7A-4886-B8ED-492E1EFE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9B0813-5338-473C-8DF7-99A97046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6E3760-E2AE-43E2-85B2-73DB5288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98C17A-A50C-48A1-8DDA-F86D6C00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F23080-3640-4D87-AA42-25560880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6A455A-A357-4270-BEAC-4D971F84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68D49E-F2F8-4A2F-9F8F-AED7362A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31E560-4579-41F8-82B5-C3FE9C8E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3C2B0-636C-48C4-81B2-17525891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6816E5-6C52-429C-A854-9549A4C7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E11B65-0839-4460-AF2C-BB8A6534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C98173-DD58-4363-B6EB-1E0BD6F1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E6C7C3-E621-4139-8FAE-08553598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00E4FF-B3C7-43C0-A990-43F198BA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E64AC6-FF8F-461C-9234-B047E0B2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D56645-7E5C-4A9B-97D0-0170B2EB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0224BD-1C5D-4F1F-936D-34C08EF8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756250-D7EA-4181-8554-FE7EA811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F83377-3A51-44F4-91A3-06601D6C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15606-2967-4658-979C-34099F43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BD81BE-7AAA-4AEA-8A3A-72C23285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27B3B9-7481-4E5E-9555-BEBA6E8E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238161-AB87-40CF-A47D-80219239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E1D401-C4E3-49CD-B501-DD26CCA3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F29805-1399-4A56-9FCE-672E5692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88A70F-E829-4908-B3B1-26FC9C95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EAA00D-4D63-46BF-B808-2338ACE1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96BEFE-3E66-4543-B487-30DC68E5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783CA0-04A5-4104-9FEC-05675ED7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76E0D8-C99F-4B3A-A34E-D598A284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637F3-9249-4928-AA06-EF2068CD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EA0B80-178D-4EF9-B525-8D94FC55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716FA8-D95E-4DFA-9348-9BF84E7F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4BFAD9-13AF-403E-B3F2-5A29C917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7CB558-D2B6-4AB4-815D-8E0878C8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BD93A4-E86E-4FC4-9061-FCE5A6EB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5A0955-5C7B-4D16-91E0-03FA67B8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E9F445-4DCE-43DB-A242-379CA6B3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4C697F-DEFF-4F88-87AD-3FEC09BB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84AC0E-1797-4EAA-8254-2270607B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837E64-273D-4B4E-96F1-45636AFE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0E62E-3E9C-405E-B841-2E438CE7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150E73-FDF9-4CF9-8BCB-4A16E7F5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2732F2-8354-4CD0-8940-8E176799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FEE264-9327-40C6-A006-AA98E19C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AC1EB5-C142-4ECE-9E16-EBF327C9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E68C76-62D6-44AB-9C32-12DDB680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ABAA77-9BDB-451D-8171-E8D4103B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FB2B8C-547E-4533-B3F8-6E72A480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AFE6B9-8DEA-4512-9F3E-44852327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42C4AF-C8D4-485E-85A0-AFFC1833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ADC90A-1CA0-4907-B3FF-FDFC8C92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A964A-88DF-4640-B911-104D2DE9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4994F5-CCEB-42C3-B7BF-AC803260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1B3CAC-FDBD-42E1-BEB7-B497B6E0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61BE86-F488-491B-AB48-9E4B9FB6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143B80-C552-4D7D-A68A-75A4DA3F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461FCE-EDC7-4E68-BBCB-D90BC521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F9F908C-C701-4436-A534-2033BDCC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AB0996-A6EC-430F-8DDD-2AC06B3B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CAD7AB-B602-4DD8-B9AC-97D96F74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A8F0D9A-D8A2-46FF-A716-7A965C81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E6D224F-B953-40B7-B9D5-5CC9D3F6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E4128-9099-4517-B7C6-ED477D24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F04B2C6-0D9E-4265-A6A0-E2A56E67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77BD0B-11BA-4F5A-84A7-63FC18F3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DCA5A19-1055-4D9F-B080-9E1FA7B0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4A72B0-CABE-4207-B838-CF3B566D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833AC5-F621-4D71-80A6-786137A0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C7BC29-BDCD-4D2E-A73C-A235A745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4B237F-FFB8-4268-A9F9-8A9B63EE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FBA86E6-A9E8-451B-B1B1-501101B4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3AA224C-A7C8-42F9-8CF3-56C4991A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4A3AEF-28D6-4354-B8B4-3C850CD4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14D93-CB0E-4D49-8C3F-5758EEF6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8EC6DC-9D1C-4E63-AD2E-60C64050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28CB7AF-9FCB-43AE-8E1E-E840AD04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190386-C6FA-49E2-A991-BDB29BAF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671FC9A-303E-443E-840A-A7B2D1E6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F2AE76-A6B9-4773-9003-3B91C489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B20DAFB-A452-4AD2-AB74-63E0084C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2699CC-C8A5-41F4-84E8-F6FB3444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E602A0-4400-4BAB-925A-B56CE00A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EEBFCB-3136-491D-B049-193E363C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BFB077-758C-434E-A89C-B3A7BBAB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957-9692-4EF9-A39F-AA7208D0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01D09-20E3-42AE-A31A-EB97AA1B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BC53BA-AB9C-4EEE-86F3-5EF5D65F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8F54B8B-EF1C-4E80-93CA-9BDD91A6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D047F79-BF37-42B9-9E7D-C542751B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2779FD4-965B-4A63-93A4-8CB8EDAE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12DD6E-059C-442B-A1BC-AFB07B55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E6E31C8-FA99-4219-99B9-6197846A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17F2F2-478C-437A-A3B3-24ABB2BA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B3AFF1A-95B3-47F6-8E79-EBB667A2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31D98CA-873D-4129-A26D-D6269E50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0EFE840-F8BC-40CE-BECD-410CA8E3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2EE35-B73E-4AE5-A18A-C3D42A98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B2749BB-1CB4-4C25-B646-D4538DE0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E17A418-5BB3-49B3-A428-B9F98D18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81C309A-21F4-4D65-8A39-881BC99C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49DB7D9-4C0C-4283-B26F-EF18C99A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5FB954-C83E-4086-90BB-2A7086FA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0BC67D1-E64C-4B7D-B316-689C6766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03ABF84-DBB0-4119-A825-DEBFA71B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0A374E0-227B-405D-93ED-27AC8204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C822D8-9E0C-488D-B5AE-645D5EB0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86FEEB-A05D-425C-8F50-B213EB78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01AA0-7202-48E0-A1E3-4D1C5F57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33781C2-53D0-414A-8962-9B537D31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26543A-5402-44F8-BBFB-BB18BCC1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96D0CB-0739-4BD1-93CD-B3256109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79FC8F0-DD00-4218-B505-EBB2DE80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4E7E87-4F1B-48A2-BA35-41B35589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63316F1-91E8-4364-A6A2-99ABCA59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9D1B292-9863-43FA-82D4-62A6B394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6917FFC-735F-4C45-8BB6-037E5D00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E1BDE40-03CA-4F92-B0C9-06E165DB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70D1827-F2FA-44EE-973F-8190842B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A7DF0-826A-41D1-A00E-9FB5D773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35CD0A2-0863-4AC8-B338-D599A8CC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E0EE95A-452B-4FEA-B546-BE2AE462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FE36F2A-427E-409B-B717-39D1FDD9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7631E29-88AE-43F2-8FCF-5F2A244A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5F2A171-23A2-43F8-BEFF-E94A14B7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D3F36A4-326E-4939-B679-7C99C73E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A8BB4B5-E27D-46A1-A19C-37DB73F7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E6C727-351A-4E66-885C-E0C7128E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E6901A-B2D6-4C4A-8FD0-B676D628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4DDB8E9-ECA7-4426-A08D-7C153AA4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178B0-7E7F-411B-99A2-9C26DAE7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7289A80-78BA-4AFF-9E1A-C4C32EB6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31C3E95-208B-453B-A1D1-988DECE4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C502E7-BCE9-4FA3-B4C8-1D7B6C70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D59E16D-0338-4F0F-9AA5-8D988E55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786A30F-53E1-4846-9FDE-B0F37214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1A469E-71A8-4A59-BA68-D8ABD88C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636CB39-E079-4B92-B0FA-F5CBBB33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66858E4-D6B2-4D84-BBA7-454C8212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F80FEB1-2EC5-4068-8E28-7FB18DB0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7508F87-F30B-47FC-8B72-DDE0AB9F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3CF66-7D1B-4D76-912E-F720A958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4A984AF-1D29-4383-A310-03F5D613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09272F4-3062-4325-B61B-66AD7972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7D519CD-C3B1-4125-980A-6955CEF4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E020AF3-1C1B-41D8-9350-F526DE8E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29F7C0A-F6E9-48AB-A92B-F3389115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0E708C2-CE95-4958-A7A1-5CE61681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94CE37E-27F9-4DFD-894B-E667DADF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4575CB7-22E7-40D5-850F-AA095C7A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7A46FEB-00C4-4CAA-9555-A16ED5A5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A9D9E5F-0D92-440F-B172-35011E96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5CA90-60E8-4BD2-A5F5-CEA5DABB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8124866-BE0D-4559-9E14-5D984753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A578A54-0DE3-4162-98AF-574DA923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1D5924-4FC7-4BA0-8D99-5FC3E62F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C9E4B9E-CA46-4803-B698-C0F1F4B3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06B461E-A268-4931-A16F-9CABB8C5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96792DE-C48E-4869-8F7F-D35EC0C2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C9FA081-9617-41FC-874F-5E2E332E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2E18695-BBAD-4954-AC0A-2D252281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1BCFD0C-4E09-47C7-95F9-AA61D286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CDABC5D-590C-42E4-8FF8-8B7D372D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CF193-9015-4206-ACC3-16348467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C273376-55D2-44BD-A6DF-2EA767BD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9CE2C67-D954-4E72-B312-086475BF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99E50EB-F9F4-4577-A276-E2645E44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ACED7BF-A26C-49C1-8A8D-78A03D55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721A251-591B-48BD-A071-B3A41A9B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E8856E5-E585-4FE2-9D89-C1CF4B38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50056D8-0513-4AAA-8077-68BACDDD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ED27B85-69FD-495B-86B2-F5A092F4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0B11D5E-82F6-4853-83E7-A8D1FD73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E239CC3-8455-4704-9AD2-DDC451BE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A88AB-9494-4FDB-A90A-A932D0EF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046F93F-4CF1-4CDB-8DE6-1334F57A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1CDB590-D85A-4BDE-A7B0-E4898B95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D2A31A0-52BD-4310-ABAB-DC4286B8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ABD6ED3-D6FE-4007-AEAF-96B190F5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520299C-2A60-44A7-8F81-6DEFD02B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465EFF6-1AB5-422B-A581-ED44BA28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0D49E1F-7B26-4E32-AC04-440EB76B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46A98AE-4AA0-4A89-8EA9-20761794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83B4CDC-CDE2-4F53-A8F3-05138C93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9A9E4FF-E205-4740-B5BC-BAEC2C9A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75961-DFF9-4810-86A4-7749199B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90D645E-1D3D-4FED-AC1D-85E69811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2D5D6ED-ADFA-4DFD-8AF0-B361225C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EB7951F-7636-4C60-8ED0-C629F93A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6CDA7CA-469E-40D4-8725-F44E6BAA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98C1659-4DEC-4328-849B-D88AD8BA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2AC5BA1-081E-4B75-8C35-1AFF0005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D073672-0108-4B43-82D0-5F81513A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9A13CFF-5B20-4EAD-BD00-382C06D6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6B50B6A-B220-448F-8B31-3EA6177C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FC44F4D-369C-4295-B25A-1EEBA1FF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396-933B-49DA-95F7-5F43EA92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2847A-CE8D-4507-A3FD-4310ECE1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8680C76-B738-473A-8E7D-6BA5D06D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EC199AF-98FD-4569-B875-E4BC8045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8F75361-85B6-48CC-A360-7C91277F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AA68FD9-3373-4792-B038-F7FE738F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A2B4D29-3151-4815-8190-727B3C51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FB1B4-AEBD-4EB7-9B70-7DC2E1A7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1034B-51C1-4393-B476-DB667925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D6DA6-5AF5-47E5-87F8-3B44808F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CE91D-265A-4AB3-9B92-154E056F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FC3C4-C27C-4318-909F-A3785A42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97AC8-8227-4BCD-8CFB-24F71D71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9D972-6D34-4D64-B591-CC7DDA37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3C27D-DF3E-4206-A985-708B1A36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C93F0-999E-4325-B008-D3744586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8E30-5644-4B8F-9C2A-E0701416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1EAFA-5AAA-408F-8762-560F6365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53682-C16B-4218-8EAB-A2D4E148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D8C53-F0BE-425C-9D3D-C22C1F32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876FD-BDEE-40F0-8B68-124AA8EB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B362B-8C37-4F17-9819-71C88B4B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D0E92-BBC0-4C81-9C4C-0606CF83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4C0C1-9F2D-44F5-A1AF-F2E363CC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5C851-9233-4426-A44D-E3E4B320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29D9D-0E8E-4FD0-9210-DB17D73E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1F61E-D3D5-420D-985B-CA9ABE63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0F3-2C78-4982-AD2D-BCC52A56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06C93-BA44-4C72-9B18-26EA8FA9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29EAE-94D6-45E4-A10F-5493C8BA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BB509-2856-4B0E-892C-B6134D5F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F2047-FA01-4378-BF42-A3321755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71CC6-F38E-4D9B-9514-E6ECDC4D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B0795-B900-4E17-B86A-AF0DF47A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93830-A1C3-4857-9489-0F2D35E7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42906-51DF-41B5-ACA9-B8D5F27E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E3E4C-39C1-44B7-88E5-8662C9EE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75604-8243-4E4A-A238-14CB56DD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4B5-D345-4EE7-A594-C837B942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E3B77-506A-4FAF-B8A0-696F6A7D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BAC1C-551B-4370-8F52-D23701A5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98E5E-7085-412B-BB46-994537B0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14857-B66C-4248-89CC-33FE7D07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90421-0B0D-4211-BE8E-3F6A5BDF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6D4C3-725D-4B7F-B125-8F75C075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1901D-D541-4DDE-98C9-C4AD79D1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072D0-E793-4BF6-B2AE-B411BE82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E898B-3289-47B2-9D14-24A4B6EB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3E1A0-B1B5-4E9B-A80F-97D6E3DC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60DB-3600-40D6-ACEE-55AC4AB6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F899A-7F09-44F4-9C31-9BA9D2C5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231E5-EC48-459B-BDDA-BCD61D66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921BD-D202-4587-831A-D0202AFE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651ED-689E-429E-9983-AD0E203D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0BED7-837B-4B8C-823B-A58D7170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5BA46-8788-497F-8B03-0F4DFE16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66808-13A9-4167-8FD4-9FCBB613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C52A4-2DC8-44D8-B4AA-43663AEA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E425F-E88E-4A9D-8874-4A69C6DF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29377-97D6-4FE6-9FA8-5D4BCD52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5DC9-C540-40F9-A52A-ABB258DB36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4DC3-1F54-4237-BAE3-1968DA8B74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DEDB-4354-4573-9E53-73AE084126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CA31-EE5E-41F0-83D3-49E45A08E4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C5BF-E9EE-4DD5-8E9F-12A7716BFA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AB1B-8F31-4EF9-B0BE-D5FE451690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24E3-2522-4CEB-A8DA-0569B7EE6C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CAD7-4004-426E-A319-E2B292445E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4B0B-5B4B-4382-B12D-750461B00D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ACAE-AE8C-469B-B0EC-0E7AA4B7C6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D12C-FB7E-4179-BAD0-BF02873322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7153-A3DF-47E4-A1C6-C1EEAF3452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CBF3-501F-4762-9219-FCFFC66AE5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9261-B36A-42F4-ABE4-0ADC6FA534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EB25-2FA0-414E-AF8B-E64A4739DD5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D7C8-D754-438F-96E9-68FA636833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42C5-9305-42B1-83C1-1BFAA3C492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1AF9-1053-4C5F-A35C-94D7099E31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CB90-7E86-4B12-8DA3-A28AB12954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AD86-C3A0-4C13-BDF4-6B4266A75E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DCB2-8E0B-4877-A0A5-3C5A72542B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162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4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165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7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C80E-E101-4A24-81EF-76E6743AE7C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DB43-D96B-4C10-9BBB-7DDA9BC081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1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1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049A-52D6-458C-AEEE-12E933CBA8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6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94B8-8D91-426A-B1B7-243358ED26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4FFF-EC89-4143-AD72-74AB6532F1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4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C096-DB6A-49A1-BDC8-E0B1AEC5C0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3691-1B14-473E-85D1-E7DA81C343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37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9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40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838B-2C79-4CA8-A3EA-5E6EC69FD3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485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7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488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0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CFEC-BB67-4F88-81DA-B7EAB63271A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3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3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22AA-F17A-4336-B0A6-909FB6F79A7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F3D3-D537-459A-8524-79D850C80E0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E4B7-7F23-43DA-B7AB-27EAABAEB8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31AD-A3C0-4A70-A573-843D0DA40A2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7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4921-E1F2-4F25-86B8-8FC1B4657EE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1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1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1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E34A-9C53-4E8E-80CD-0E0BEBCF21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76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dt" idx="1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 type="ftr" idx="1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 type="sldNum" idx="1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1C13-28BD-42E8-A32B-14DEEACC146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9A5D-EF0A-45B5-9807-5D0CE36168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C1A5-2EEF-46FC-B37C-1073973956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9A6E-3346-42D8-9D1B-19DA17CD92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9CA9-9A61-4CF4-8CCD-458E6E5A89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0D65-FF1E-4839-870A-1131614DD4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Культура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- это часть общей культуры личности, включающая систему знаний о здоровье, методах самодиагностики психофизического состояния, компонентах здорового образа жизни; осознание личностной значимости ценности здоровья и здорового образа жизни как необходимости личностного саморазвития; способность сознательной выработки индивидуальной стратегии сбережения и развития здоровь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кольный спортивный клуб (ШСК)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 – это форма внеурочной деятельности общеобразовательной школы, ориентированная на формирование физической культуры личности, характеризующаяся физкультурно-спортивной и общественно значимой направлен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СК может создаваться образовательными организациями в качестве их структурных подразделений или в виде общественных объединений, не являющихся юридическими лицами. Деятельность ШСК регламентируется Положением о ШСК, которое самостоятельно разрабатывает и утверждает образовательная организаци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Скругленный прямоугольник 1"/>
          <p:cNvSpPr/>
          <p:nvPr/>
        </p:nvSpPr>
        <p:spPr>
          <a:xfrm>
            <a:off x="611280" y="404640"/>
            <a:ext cx="8137440" cy="1656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едагогические условия формирования культуры здоровья обучающихся в рамках функционирования школьного спортивного клу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Скругленный прямоугольник 2"/>
          <p:cNvSpPr/>
          <p:nvPr/>
        </p:nvSpPr>
        <p:spPr>
          <a:xfrm>
            <a:off x="638280" y="2276640"/>
            <a:ext cx="8136000" cy="979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1" name="Прямая со стрелкой 4"/>
          <p:cNvCxnSpPr>
            <a:stCxn id="1809" idx="1"/>
            <a:endCxn id="1809" idx="1"/>
          </p:cNvCxnSpPr>
          <p:nvPr/>
        </p:nvCxnSpPr>
        <p:spPr>
          <a:xfrm>
            <a:off x="610920" y="123300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2" name="Стрелка углом вверх 8"/>
          <p:cNvSpPr/>
          <p:nvPr/>
        </p:nvSpPr>
        <p:spPr>
          <a:xfrm>
            <a:off x="611280" y="1233360"/>
            <a:ext cx="46080" cy="44640"/>
          </a:xfrm>
          <a:custGeom>
            <a:avLst/>
            <a:gdLst/>
            <a:ahLst/>
            <a:rect l="l" t="t" r="r" b="b"/>
            <a:pathLst>
              <a:path w="46037" h="44450">
                <a:moveTo>
                  <a:pt x="0" y="-32198"/>
                </a:moveTo>
                <a:lnTo>
                  <a:pt x="29368" y="-32198"/>
                </a:lnTo>
                <a:lnTo>
                  <a:pt x="29368" y="11113"/>
                </a:lnTo>
                <a:lnTo>
                  <a:pt x="23812" y="11113"/>
                </a:lnTo>
                <a:lnTo>
                  <a:pt x="-30611" y="0"/>
                </a:lnTo>
                <a:lnTo>
                  <a:pt x="-19499" y="11113"/>
                </a:lnTo>
                <a:lnTo>
                  <a:pt x="-25055" y="11113"/>
                </a:lnTo>
                <a:lnTo>
                  <a:pt x="-25055" y="-21086"/>
                </a:lnTo>
                <a:lnTo>
                  <a:pt x="0" y="-21086"/>
                </a:lnTo>
                <a:lnTo>
                  <a:pt x="0" y="-3219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Соединительная линия уступом 11"/>
          <p:cNvCxnSpPr/>
          <p:nvPr/>
        </p:nvCxnSpPr>
        <p:spPr>
          <a:xfrm flipH="1" flipV="1" rot="10800000">
            <a:off x="599040" y="525240"/>
            <a:ext cx="27720" cy="4907520"/>
          </a:xfrm>
          <a:prstGeom prst="bentConnector3">
            <a:avLst>
              <a:gd name="adj1" fmla="val -87763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4" name="Прямая со стрелкой 15"/>
          <p:cNvCxnSpPr/>
          <p:nvPr/>
        </p:nvCxnSpPr>
        <p:spPr>
          <a:xfrm>
            <a:off x="371520" y="417636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5" name="Прямоугольник 28"/>
          <p:cNvSpPr/>
          <p:nvPr/>
        </p:nvSpPr>
        <p:spPr>
          <a:xfrm>
            <a:off x="644400" y="4834080"/>
            <a:ext cx="811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вышение профессиоальной компетентности педагогов в вопросах формирования культуры здоровья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Прямоугольник 29"/>
          <p:cNvSpPr/>
          <p:nvPr/>
        </p:nvSpPr>
        <p:spPr>
          <a:xfrm>
            <a:off x="611280" y="5722920"/>
            <a:ext cx="811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азработка и реализация индивидуальных программ сбережения и развит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Скругленный прямоугольник 24"/>
          <p:cNvSpPr/>
          <p:nvPr/>
        </p:nvSpPr>
        <p:spPr>
          <a:xfrm>
            <a:off x="657360" y="3686040"/>
            <a:ext cx="813564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роектирование индивидуальных программ сбережения и укреплен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Скругленный прямоугольник 27"/>
          <p:cNvSpPr/>
          <p:nvPr/>
        </p:nvSpPr>
        <p:spPr>
          <a:xfrm>
            <a:off x="635040" y="4941720"/>
            <a:ext cx="813600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беспечение взаимодействия всех субъектов учебно-воспитательной деятель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9" name="Прямая со стрелкой 31"/>
          <p:cNvCxnSpPr/>
          <p:nvPr/>
        </p:nvCxnSpPr>
        <p:spPr>
          <a:xfrm>
            <a:off x="371520" y="278424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смотр мультфильмов, тематических видеоматериалов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Обсуждение примеров известных людей прошлого и современности, обладающих высоким уровнем культуры здоровь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ведение рефлексии с целью выявления мотивов поведения рассматриваемых персон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Проектирование индивидуальных программ сбережения и укрепления здоровья обучающихс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Индивидуальная программа сбережения и развития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– это составная часть индивидуальной образовательной программы, комплексно описывающая деятельность по сбережению и развитию здоровья, содержащая индивидуальные цели, этапы и способы их достижения, результаты, анализ и оценку результат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95280" y="836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 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1. Анализ индивидуального опыта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2. Индивидуальная карта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3. Цель и задачи деятельности по сбережению и укреплению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 txBox="1"/>
          <p:nvPr/>
        </p:nvSpPr>
        <p:spPr>
          <a:xfrm>
            <a:off x="395280" y="188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4. Индивидуальный план деятельности по сбережению и укреплениюздоровь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индивидуальный план двигательной актив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закаливания, дыхательной гимнастики, отказа от вредных привычек и др.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рефлексивных ситуаций (мероприятий), в том числе представление индивидуальной программы сбережения и развития здоровья, достигнут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5. Оценка эффективности реализации индивидуальной программы сбережения и укрепления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19" descr=""/>
          <p:cNvPicPr/>
          <p:nvPr/>
        </p:nvPicPr>
        <p:blipFill>
          <a:blip r:embed="rId1"/>
          <a:srcRect l="24215" t="30963" r="18744" b="14575"/>
          <a:stretch/>
        </p:blipFill>
        <p:spPr>
          <a:xfrm>
            <a:off x="1547640" y="1484280"/>
            <a:ext cx="6048720" cy="3889440"/>
          </a:xfrm>
          <a:prstGeom prst="rect">
            <a:avLst/>
          </a:prstGeom>
          <a:ln w="0">
            <a:noFill/>
          </a:ln>
        </p:spPr>
      </p:pic>
      <p:sp>
        <p:nvSpPr>
          <p:cNvPr id="1825" name="Прямоугольник 18"/>
          <p:cNvSpPr/>
          <p:nvPr/>
        </p:nvSpPr>
        <p:spPr>
          <a:xfrm>
            <a:off x="755640" y="47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беспечение взаимодействия всех субъектов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учебно-воспитательной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деятельности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8:55:57Z</dcterms:created>
  <dc:creator>Venera</dc:creator>
  <dc:description/>
  <dc:language>en-US</dc:language>
  <cp:lastModifiedBy>Пользователь Windows</cp:lastModifiedBy>
  <dcterms:modified xsi:type="dcterms:W3CDTF">2019-11-16T07:53:27Z</dcterms:modified>
  <cp:revision>178</cp:revision>
  <dc:subject/>
  <dc:title>Слайд 1</dc:title>
</cp:coreProperties>
</file>